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4F07-5829-4A1A-B321-A7A916C7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DE2B-A1E3-40E3-8D7E-57074128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FBC3-3BC7-4DDF-BC2E-F6A4F971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550E-7996-4782-847E-1F16E6BC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EF18-602D-4AEE-8219-A8636243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56DC-666D-4C56-B1F1-49909BB8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388B-2C3D-4178-A5F6-592D58B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F498-A72B-4C3D-9AD7-700847F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687A-0C0E-4D12-90C2-ACBFBA4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DAF0-BE89-40AB-86F4-0626226E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E470-CF8B-48B6-B534-047BD24C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24C4-1E1C-4F7F-8DFE-02C16434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CB79-0776-4DB3-ABF6-713E5CE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E004-C5E4-4A6A-AF47-3D27767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BBA5-3027-418E-81F2-E210A46D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4784-B847-4466-B43C-2EBC1845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7341-155D-4BA1-8A64-F6ACDDA7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3187-14EA-44BA-B37D-83154D6C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709D-8919-4718-AF1D-1E782A0A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AAA9-670C-4F79-BF21-D083AF0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E38D-A775-4493-A522-062628B0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74A3-88B9-4832-AC94-6535F2F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53E5-45D2-423D-B970-F6AED2F4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24BC-F65A-4820-A443-D0AE69A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8EB9-ABF9-4902-9640-91858FF28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E79-0405-4F3B-8FF5-371CB3364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e6"/>
                </a:solidFill>
                <a:latin typeface="Arial"/>
              </a:rPr>
              <a:t>Me llamo _______ Clase 6 NH(602)</a:t>
            </a:r>
            <a:br>
              <a:rPr sz="3600"/>
            </a:br>
            <a:r>
              <a:rPr b="0" lang="en-US" sz="3600" spc="-1" strike="noStrike">
                <a:solidFill>
                  <a:srgbClr val="cccce6"/>
                </a:solidFill>
                <a:latin typeface="Arial"/>
              </a:rPr>
              <a:t>La fecha es el 15 de nov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Propósito # 1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prueba del Repaso A/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la forma correcta del ver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________ en la calle 80. (viv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 ________ ensalada. 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uisa ________ la tarea rápido. (termi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ladys y yo _________ los problemas. (ent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los libros a la mesa. (su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 las plumas en la papelería. (comp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371600"/>
          <a:ext cx="8610480" cy="5467320"/>
        </p:xfrm>
        <a:graphic>
          <a:graphicData uri="http://schemas.openxmlformats.org/drawingml/2006/table">
            <a:tbl>
              <a:tblPr/>
              <a:tblGrid>
                <a:gridCol w="2362320"/>
                <a:gridCol w="1942920"/>
                <a:gridCol w="2152800"/>
                <a:gridCol w="215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om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cu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E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D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p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las oraciones con la forma correcta del verb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______ a la casa de Rosa. (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ardo y yo le _________ un regalo. (d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 estudiando para la prueba. (es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lumnos ______ a un paseo. (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no _________ problemas en casa.(d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 muy nervioso hoy. (es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paso:</a:t>
            </a:r>
            <a:br>
              <a:rPr sz="44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II-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areja la palabra interrogativa con su significado en i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a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85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.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g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 ON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i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la escuela, la tienda, la ro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 ver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Words: Palabras interroga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, Dar, Est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BRING A BOOK TO READ AFTER YOUR QUI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20:59:16Z</dcterms:created>
  <dc:creator>Helen Zumaeta</dc:creator>
  <dc:description/>
  <dc:language>en-US</dc:language>
  <cp:lastModifiedBy>Helen Zumaeta</cp:lastModifiedBy>
  <dcterms:modified xsi:type="dcterms:W3CDTF">2012-11-15T17:33:21Z</dcterms:modified>
  <cp:revision>12</cp:revision>
  <dc:subject/>
  <dc:title>Me llamo __________ Clase 6 NH La fecha es el 9 de febrero del 2012</dc:title>
</cp:coreProperties>
</file>